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8EED-FC1F-4D3A-81CC-6D82BE9F0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1EFD-40D6-40DA-ACF6-DEDA5940E7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970A-7F17-40A9-AE99-5894E94C67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3542-F38B-4A88-B660-2C1823E331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6AE-2591-4E84-AF66-8D22E2B4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60E-EC78-41E3-8ED9-505A6B98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8DF-A5AB-4E75-884D-3BEC3E4C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FC1-9334-4A59-864A-4D64FFAC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44BF-984C-4367-8D57-6C7F8339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BFC-F793-4F54-8449-6A2D276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F04E-E951-4B15-9862-339C4C24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EDD3-8051-4973-A39F-2CF76358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9693-D67E-4917-8210-C60C37CE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2C5E-B2FA-4070-BAD5-FF515A46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A539-F222-46E9-9746-DC50774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A07-B7B5-4D98-9702-DB00D1A5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9AD3-0F3B-40EC-8378-3F943AC8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5130-654E-4220-82B4-E18D47EB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5040-0BCC-4EC2-9FBF-B919082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DEDE-65B9-479B-ABF3-110358B6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4536-2F1B-454C-9127-BBCE54DB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700-E570-461E-B8C1-9C687A91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D20-8CDE-4B7D-9FCC-445B4F17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C5A-235D-482B-AFEF-321EA5E8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1C7-5809-4396-9FF1-42A8E8FA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3C0-E302-42B2-B86E-6941E2CA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845-45CB-4B0E-B0AE-BE03B717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352-B414-4861-9C22-C28724A8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498A-FA20-48B5-ACC0-A1D980A59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9A6A-6BA3-4DFA-B431-78E4912794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8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737000" y="838080"/>
            <a:ext cx="575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Геометрические фигу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архитектур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638680" y="274320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вторы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рофеев Мар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ченик 11-го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952880" y="50292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уководитель  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арпова Кристи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Ивано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052520" y="6248520"/>
            <a:ext cx="15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Сыктывк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1200849"/>
          <p:cNvPicPr/>
          <p:nvPr/>
        </p:nvPicPr>
        <p:blipFill>
          <a:blip r:embed="rId1"/>
          <a:stretch/>
        </p:blipFill>
        <p:spPr>
          <a:xfrm>
            <a:off x="228600" y="25146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План Исаакиевского собора в Санкт-Петербург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ожно с уверен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казать, что в осно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рама лежат квадра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торые придают е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тойкости и равновес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plan_of_st__isaac27s_cathedral"/>
          <p:cNvPicPr/>
          <p:nvPr/>
        </p:nvPicPr>
        <p:blipFill>
          <a:blip r:embed="rId1"/>
          <a:stretch/>
        </p:blipFill>
        <p:spPr>
          <a:xfrm>
            <a:off x="0" y="1700280"/>
            <a:ext cx="4608360" cy="41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356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строении 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тянутого ввер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пола использовала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ая фигура, как цилин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f_7053623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43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стро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усских церкв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шатрового сти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рхитекто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сомнен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меняли фигу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ямоуголь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ллелепипед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линдры, кону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рамиды и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080124182808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48320" y="1066320"/>
            <a:ext cx="449568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азовая часть здания представляет собой невыпуклую прямую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зму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Призма является невыпуклой, благодаря  выступам, которые заполнены вертикальными рядами ок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" descr="klub_rusakova1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3247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4952880"/>
            <a:ext cx="47242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дание клуба имени И.В.Русакова в Москве. Это здание построено в 1929 г. по проекту архитектора К.Мельников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48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которые архитектурные сооружения имеют довольно простую форму. Например, башня с часами, которая является обязательным атрибутом любого американского университета. Она имеет форму прямой четырехугольно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зм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которую еще называют прямоугольны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ллелепипедо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bashn_chas11"/>
          <p:cNvPicPr/>
          <p:nvPr/>
        </p:nvPicPr>
        <p:blipFill>
          <a:blip r:embed="rId1"/>
          <a:stretch/>
        </p:blipFill>
        <p:spPr>
          <a:xfrm>
            <a:off x="0" y="0"/>
            <a:ext cx="4438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 чаще всего в архитектурном сооружении сочетаются различные геометрические фигуры. Например, в Спасской башне Московского кремля в основании можно увидеть прямо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ллелепипед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переходящий в средней части в фигуру, приближающуюся к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илиндру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завершается же о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рамидо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1781494"/>
          <p:cNvPicPr/>
          <p:nvPr/>
        </p:nvPicPr>
        <p:blipFill>
          <a:blip r:embed="rId1"/>
          <a:srcRect l="17812" t="1772" r="0" b="0"/>
          <a:stretch/>
        </p:blipFill>
        <p:spPr>
          <a:xfrm>
            <a:off x="0" y="0"/>
            <a:ext cx="39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перь, подкрепив примерами утверждение, можно с уверенностью сказать, что Геометрические фигуры – ОСНОВА АРХИТЕК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" descr="7656603"/>
          <p:cNvPicPr/>
          <p:nvPr/>
        </p:nvPicPr>
        <p:blipFill>
          <a:blip r:embed="rId1"/>
          <a:stretch/>
        </p:blipFill>
        <p:spPr>
          <a:xfrm>
            <a:off x="5796000" y="4114800"/>
            <a:ext cx="3348000" cy="2516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132196"/>
          <p:cNvPicPr/>
          <p:nvPr/>
        </p:nvPicPr>
        <p:blipFill>
          <a:blip r:embed="rId2"/>
          <a:stretch/>
        </p:blipFill>
        <p:spPr>
          <a:xfrm>
            <a:off x="0" y="2133720"/>
            <a:ext cx="3492360" cy="2620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324183_25"/>
          <p:cNvPicPr/>
          <p:nvPr/>
        </p:nvPicPr>
        <p:blipFill>
          <a:blip r:embed="rId3"/>
          <a:stretch/>
        </p:blipFill>
        <p:spPr>
          <a:xfrm>
            <a:off x="2050920" y="4508640"/>
            <a:ext cx="2935440" cy="234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080124182808"/>
          <p:cNvPicPr/>
          <p:nvPr/>
        </p:nvPicPr>
        <p:blipFill>
          <a:blip r:embed="rId4"/>
          <a:stretch/>
        </p:blipFill>
        <p:spPr>
          <a:xfrm>
            <a:off x="4114800" y="1981080"/>
            <a:ext cx="311796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1235116856_1235030663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9280" y="-360"/>
            <a:ext cx="820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 основе любого архитектурного сооружения лежат геометрические фигуры и тел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400px-Hexahedron"/>
          <p:cNvPicPr/>
          <p:nvPr/>
        </p:nvPicPr>
        <p:blipFill>
          <a:blip r:embed="rId1"/>
          <a:stretch/>
        </p:blipFill>
        <p:spPr>
          <a:xfrm>
            <a:off x="0" y="1828800"/>
            <a:ext cx="3043080" cy="338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20070921021819"/>
          <p:cNvPicPr/>
          <p:nvPr/>
        </p:nvPicPr>
        <p:blipFill>
          <a:blip r:embed="rId2"/>
          <a:stretch/>
        </p:blipFill>
        <p:spPr>
          <a:xfrm>
            <a:off x="2819520" y="397656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image11271"/>
          <p:cNvPicPr/>
          <p:nvPr/>
        </p:nvPicPr>
        <p:blipFill>
          <a:blip r:embed="rId3"/>
          <a:stretch/>
        </p:blipFill>
        <p:spPr>
          <a:xfrm>
            <a:off x="5791320" y="1752480"/>
            <a:ext cx="3063600" cy="3063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685"/>
          <p:cNvPicPr/>
          <p:nvPr/>
        </p:nvPicPr>
        <p:blipFill>
          <a:blip r:embed="rId4"/>
          <a:stretch/>
        </p:blipFill>
        <p:spPr>
          <a:xfrm>
            <a:off x="5486400" y="4529160"/>
            <a:ext cx="34923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23563529380f9"/>
          <p:cNvPicPr/>
          <p:nvPr/>
        </p:nvPicPr>
        <p:blipFill>
          <a:blip r:embed="rId1"/>
          <a:stretch/>
        </p:blipFill>
        <p:spPr>
          <a:xfrm>
            <a:off x="3467160" y="0"/>
            <a:ext cx="5676840" cy="40006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505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названии усыпальниц египетских фараонов используется наз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5"/>
          <p:cNvPicPr/>
          <p:nvPr/>
        </p:nvPicPr>
        <p:blipFill>
          <a:blip r:embed="rId2"/>
          <a:srcRect l="0" t="0" r="0" b="9791"/>
          <a:stretch/>
        </p:blipFill>
        <p:spPr>
          <a:xfrm>
            <a:off x="0" y="354168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334120" y="411480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транствен-ной геометрической фигуры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ирамид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343040" y="685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нализ египетских пирамид показывает, что египтяне всегда стремились воплотить в своих пирамидах некоторые важные математические знания. В этом отношении весьма интересной является пирамида Хефрена. Измерения пирамиды показали, что угол наклона боковых граней в ней равен 53°12', что отвечает отношению катетов прямоугольного треугольника 4:3. Такое отношение катетов соответствует хорошо известному прямоугольному треугольнику со сторонами 3:4:5, который называют "совершенным", "священным" или "египетским" треуг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E:\Documents\Катя\eg101207-7.jpg"/>
          <p:cNvPicPr/>
          <p:nvPr/>
        </p:nvPicPr>
        <p:blipFill>
          <a:blip r:embed="rId1"/>
          <a:stretch/>
        </p:blipFill>
        <p:spPr>
          <a:xfrm>
            <a:off x="0" y="225360"/>
            <a:ext cx="4389480" cy="3541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http://gazpromschool.by.ru/projects/geometry/tr/images/tr113_2a1.gif"/>
          <p:cNvPicPr/>
          <p:nvPr/>
        </p:nvPicPr>
        <p:blipFill>
          <a:blip r:embed="rId2"/>
          <a:stretch/>
        </p:blipFill>
        <p:spPr>
          <a:xfrm>
            <a:off x="1219320" y="3352680"/>
            <a:ext cx="3578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еометрические фигуры окружают нас постоянно в обычной жизни, а знание их свойств облегчает человеку его существ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е геометрические формы «ладят» друг с другом.  Здания строятся в определённом порядке. Архитектор строго учитывает их формы при проектировании г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889440" cy="413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PH02053J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24280" y="91440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рмитаж в Петербург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StPeter-symniy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25780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этом зда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еобладают чет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инии и прямые уг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то очень схо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 такой фигур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ямоуго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ллепип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3" descr="zimniy"/>
          <p:cNvPicPr/>
          <p:nvPr/>
        </p:nvPicPr>
        <p:blipFill>
          <a:blip r:embed="rId1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324183_25"/>
          <p:cNvPicPr/>
          <p:nvPr/>
        </p:nvPicPr>
        <p:blipFill>
          <a:blip r:embed="rId2"/>
          <a:stretch/>
        </p:blipFill>
        <p:spPr>
          <a:xfrm>
            <a:off x="5219640" y="4006800"/>
            <a:ext cx="3924360" cy="2851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zimniy_dvorec_1"/>
          <p:cNvPicPr/>
          <p:nvPr/>
        </p:nvPicPr>
        <p:blipFill>
          <a:blip r:embed="rId3"/>
          <a:stretch/>
        </p:blipFill>
        <p:spPr>
          <a:xfrm>
            <a:off x="0" y="3719520"/>
            <a:ext cx="536400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саакиевский со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9343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1938"/>
          <p:cNvPicPr/>
          <p:nvPr/>
        </p:nvPicPr>
        <p:blipFill>
          <a:blip r:embed="rId1"/>
          <a:stretch/>
        </p:blipFill>
        <p:spPr>
          <a:xfrm>
            <a:off x="468360" y="493560"/>
            <a:ext cx="8028000" cy="636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26T14:59:5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